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142F-D100-47AB-9401-0926737762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98C9-7973-452A-967D-05F625110CA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E95B-3DDE-4B0C-838E-9C4DA8279BE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AAA6-0D95-43CE-B366-48F0BFCD05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E344-F5B5-42D1-86B1-34777A64227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8928-CE71-45A1-AEDF-825BC6B8E19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FA9-D976-4737-8ECC-43A93A28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74B2-22ED-4DE9-9962-BBE26E6A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DD40-5B37-4213-A1B2-6DB3A01C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46B-50FD-473A-B6C9-DD142C6A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C3F3-4A50-4D44-A131-2F6655FF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8DBA-038E-4C05-B89F-A1500281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6A3F-8D80-48DB-A816-1AFD4EAE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04DC-314D-461C-B86C-CF7C7647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B2F6-CB5A-4C6B-8136-FF4CFB2B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7B60-D03E-4373-A6B7-B28D6D33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9740-7029-4CE2-A785-7FA627CD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DEB-CD0E-41C5-B233-D1513523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EBD9-A708-4AE8-B989-532C6BB7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9664-6624-496D-9B13-E618CA5C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0448-77F0-482C-948B-AB2F161D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6633-397D-4445-B4AB-4072AD36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2E54-6B12-46AD-A407-09FF44DC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2C6-E54B-4A57-86FF-B28113A4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8EA-55D8-4641-91E7-AC4B5316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6F3-6D4C-441E-8D53-9B4B4043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1B9A-DA27-4DF7-BBB9-EF887B63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903C-C3C6-414E-84AC-E820391A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7DA-BA3C-4746-B06C-C811E6A1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152-2706-4380-ABF5-DB57B0E5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4C0D-0002-4FBC-9514-2926627E29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254E-98D0-48C5-9C0F-67FACA7E58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sutd.ru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sutd.ru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659880"/>
            <a:ext cx="8713800" cy="2265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Молодежный форум 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Приволжского федерального округа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Волга – 2013»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Смена «Технология добра» 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437920"/>
            <a:ext cx="7936200" cy="25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79280" y="3067200"/>
            <a:ext cx="8713800" cy="3141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ия лекционных занятий на те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Деятельн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ровольческих центров и созд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лодежных добровольческих агентст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ладимир Лукья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ександр Анто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ЦЕЛИ И ЗАДАЧИ ДЦ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Целью деятельности ДЦ являетс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беспечение благоприятных условий для граждан, государственных, муниципальных и некоммерческих организаций социальной сферы в области добровольчества и поддержка добровольческих инициати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сновными задачами деятельности ДЦ могут быть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ирование, просвещение, вовлечение, поддержка и стимулирование населения для участия в добровольческой деятельности в социальной сфере, уделяя особое внимание поддержке молодежного и семейного добровольчеств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сурсная поддержка и предоставление базового комплекса услуг для организаций социальной сферы в области стимулирования, поддержки и развития добровольчества  в интересах развития социальной сферы и решения социальных проблем территории, повышения социально-экономической эффективности добровольного труд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практического взаимодействия и партнерств в области поддержки добровольчеств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действие созданию и функционированию структур поддержки добровольчества на различных уровнях, а также в профильных организациях социальной сфер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единение потребностей организаций социальной сферы в добровольческих ресурсах с интересами граждан к добровольческой деятельности и добровольному труду в социальной сфер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квалификации, обучение и подготовка новых кадров в области управления добровольцам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496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дение исследований, обобщение информации, распространение опыта и технологий в области добровольчества, внедрение в практику эффективных форм вовлечения граждан в добровольческую деятельность и методов организации добровольного труд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е государственных, муниципальных и негосударственных организаций социальной сферы, коммерческих компаний, СМИ, частных доноров и авторитетных персон  к решению вопросов, связанных со стимулированием добровольчеств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действие расширению финансовой и материально-технической базы для развития системы поддержки добровольческих инициати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059680" cy="4105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Городской Центр поддержки добровольческих инициатив в структуре Санкт-Петербургского государственного учреждения «Центр международных гуманитарных связей» (Санкт-Петербург, 2008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Добровольческий центр в структуре Муниципального учреждения социально-культурного обслуживания молодежи и подростков «Молодежный информационно-культурный центр» (Новокуйбышевск, 2008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Государственное (областное) учреждение «Центр развития добровольчества» (Липецк, 200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68360" y="33336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еятельность государственных и муниципальных добровольческих центров в Российской Федерации стала организовываться с 2008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772400" cy="4105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бровольческие центры и агентства добровольной помощи составляют основу инфраструктуры поддержки добровольческих инициатив на региональном и местном уровнях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общественны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муниципальны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государстве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68360" y="3333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РАВОВЫЕ ОСНОВАНИЯ И ОРГАНИЗАЦИОННО-ПРАВОВЫЕ ФОРМЫ Д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НОРМАТИВНО ПРАВОВАЯ БАЗА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ституция Российской Федерации (ч. 4 и 5 ст. 13, ч. 2 ст.19, ст. 30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ажданский кодекс Российской Федерации (ст. 117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деральный закон от 19 мая 1995 г. № 82-ФЗ «Об общественных объединениях»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деральный закон от 28 июня 1995 г. № 98-ФЗ «О государственной поддержке молодежных и детских общественных объединений»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деральный закон от 11 августа 1995г. № 135-ФЗ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благотворительной деятельности и благотворительных организациях»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деральный закон от 10 декабря 1995г. № 195-ФЗ "Об основах социального обслуживания населения в Российской Федерации"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оряжение Правительства Российской Федерации от 18 декабря 2006 г.  № 1760-р «Стратегия государственной молодежной политики в Российской Федерации»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оряжение Президента РФ от 30 июля 2009 г. № 1054- рп «О Концепции содействия развитию благотворительной деятельности и добровольчества (волонтерства) в РФ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золюция Генеральной Ассамблеи Организации Объединенных Наций от  10 декабря 1948 г. № 217 А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 «Всеобщая декларация прав человека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лад Генерального секретаря Организации Объединенных Наций от 10.01.2002 г. № 56/38 «Рекомендации о поддержке добровольчества»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ые нормативные правовые акты Российской Федерации и субьектов РФ, регулирующие вопросы развития социальной сферы и институтов гражданского общ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НОРМАТИВНО ПРАВОВАЯ БАЗА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КЛИЕНТЫ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Клиентами ДЦ являются граждане и организации социальной сфе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сновными клиентами ДЦ являю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тенциальные и действующие добровольц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изации социальной сферы (НКО и ГУ/МУ), решающие социальные проблемы с участием добровольце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Косвенными клиентами ДЦ являю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мерческие компан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ства массовой информ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ы государственной власти и местного самоупра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Добровольческие центры могут обеспечивать население и организации комплексом услуг в сфере стимулирования и поддержки добровольчества предоставляя (как минимум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нформационную и методическую поддержку организация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-  информацию гражданам о наличии видов работ, предлагаемых для исполнения на основе добровольной работы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- подготовку кадров для организации добровольной работы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- направление добровольцев для выполнения общественно полезных работ на территории своей деятельности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68360" y="3333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ОСНОВНЫЕ УСЛУГ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ДОБРОВОЛЬЧЕСКОГО ЦЕН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НЫЙ НАБОР УСЛУГ</a:t>
            </a:r>
            <a:br>
              <a:rPr sz="2400"/>
            </a:b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ДЛЯ ПОТЕНЦИАЛЬНЫХ И ДЕЙСТВУЮЩИХ ДОБРОВОЛЬЦЕВ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дение просветительских и информационно-мотивирующих мероприятий по тематике добровольчества в организациях социальной сфер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бор и предоставление жителям (потенциальным добровольцам)  и действующим добровольцам информации о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    свободных местах для добровольного труда в организациях социальной сфер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бровольческих мероприятиях и акция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ормационная, организационная, методическая и ресурсная поддержка молодежных добровольческих инициатив (молодежных добровольческих социальных проект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держка проведения гражданами городских добровольческих мероприятий и акций гуманитарного характе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ВОПРОСЫ ДЛЯ ОБСУЖДЕНИЯ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0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ность и Миссия, принципы, основные функции, цели и задачи ДЦ и М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овые основания и организационно-правовые формы ДЦ и М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иенты ДЦ и М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луги ДЦ и М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стематическая информационная поддержка действующих добровольцев – основных клиентов Цен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учение добровольцев организ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ультационно-методическая поддержка добровольцев организ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луги библиотеки добровольч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луги Лектор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держка Клуба добровольце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ощрение добровольце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НЫЙ НАБОР УСЛУГ</a:t>
            </a:r>
            <a:br>
              <a:rPr sz="2400"/>
            </a:b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ДЛЯ ПОТЕНЦИАЛЬНЫХ И ДЕЙСТВУЮЩИХ ДОБРОВОЛЬЦЕВ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0" y="717480"/>
          <a:ext cx="9144000" cy="614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17480"/>
                    <a:ext cx="9144000" cy="61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8"/>
          <p:cNvSpPr/>
          <p:nvPr/>
        </p:nvSpPr>
        <p:spPr>
          <a:xfrm>
            <a:off x="250920" y="2602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НЫЙ НАБОР УСЛУГ ДЛЯ ОРГАНИЗ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7772400" cy="4608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Добровольческий Центр социальной помощи (центр социального служения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организация, продвигающая идеи добровольчества, приоритетом (предметом) деятельности которой является оказание социальной помощи (социальное служение) одной, или нескольким социальным группам, а  механизмом –  организация работы добровольцев для решения задач своей организа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Профильный Добровольческий Центр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кусируют свою деятельность на решении социальных проблем в конкретной сфере, или на характеристике добровольцев, с которыми он работает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468360" y="33336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СНОВНЫЕ ТИПЫ Д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7772400" cy="460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Ресурсный Добровольческий Центр (центр компетентности)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сурсные Добровольческие Центры сосредотачивают свою деятельность на каком-либо виде ресурсной поддержки в области добровольчества. Во многом это связано с малой устойчивостью ресурсной базы центра и уровнем квалифика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Комплексный Добровольческий Центр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Это центр, совмещающий функции ресурсного центра и центра социального служения. Комплексный Добровольческий Центр - это будущее российских Добровольческих Центров и цель для развития многих действующи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68360" y="33336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СНОВНЫЕ ТИПЫ Д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рельская региональная общественная молодежная организация «Центр развития добровольчества» действует с октября 2009 г., официально действует с декабря того же го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 начала 2010 г. является членом IAV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дея создания Карельского центра развития добровольчества жила в Республике Карелия уже довольно давно. Еще в 2005 году в г. Петрозаводск было создано партнерство двух общественных организаций КРОМОО «Центр «Инициатива» и БФ «Утешение», которое на протяжении 5-ти лет реализовывало программу развития добровольчества в Карел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Рисунок 3" descr="C:\Users\Александр\Desktop\logo.png"/>
          <p:cNvPicPr/>
          <p:nvPr/>
        </p:nvPicPr>
        <p:blipFill>
          <a:blip r:embed="rId1"/>
          <a:stretch/>
        </p:blipFill>
        <p:spPr>
          <a:xfrm>
            <a:off x="1187280" y="1563840"/>
            <a:ext cx="7272360" cy="114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27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формирование молодежи о добровольческой деятельности через различные формы, востребованные в молодежной сред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зработка образовательных программ по подготовке добровольцев и сотрудников организаций, работающих с ни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здание и сопровождение банка данных о потребностях некоммерческих и государственных организаций в услугах добровольцев и базы данных добровольце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зработка документов регулирующих отношения волонтеров и получателей их услу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еализация международных волонтерских проектов на территории Карел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ддержка добровольцев и помощь в реализации их проек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0" name="Рисунок 5" descr="C:\Users\Александр\Desktop\logo.png"/>
          <p:cNvPicPr/>
          <p:nvPr/>
        </p:nvPicPr>
        <p:blipFill>
          <a:blip r:embed="rId1"/>
          <a:stretch/>
        </p:blipFill>
        <p:spPr>
          <a:xfrm>
            <a:off x="1187280" y="1563840"/>
            <a:ext cx="7272360" cy="114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1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гиональная молодежная общественная организация "Центр развития добровольчества Республики Татарстан"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йствуе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С 2006 в виде общественного объединения без образования юридического лица, с 2011 г. - официально зарегистрирована в органах юсти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иссия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движение идей добровольчества, сострадания и толерантности в современном обществ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создание условий для развития добровольчества в Республике Татарст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Рисунок 7" descr="http://www.kdobru.ru/netcat_files/userfiles/image/a_4a5d965a.jpg"/>
          <p:cNvPicPr/>
          <p:nvPr/>
        </p:nvPicPr>
        <p:blipFill>
          <a:blip r:embed="rId1"/>
          <a:stretch/>
        </p:blipFill>
        <p:spPr>
          <a:xfrm>
            <a:off x="907920" y="1554120"/>
            <a:ext cx="1841760" cy="261612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2692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уги СО НК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Обучение специалистов, ответственных за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работу с добровольцам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Предоставление добровольце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Методическая, консультационная и организационная поддерж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Информационное сопровождени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Ведение баз данных добровольцев 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уги  добровольц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Предоставление добровольческих ваканси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Методическое, консультационное, информационное сопровождение деятельност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Поощрение добровольце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Адвокация добровольце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Обучение по общим вопросам, по направления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 Обмен опытом работы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. Поддержка инициатив, помощь в реализации социальных проект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85800" y="-10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Рисунок 5" descr="http://www.kdobru.ru/netcat_files/userfiles/image/a_4a5d965a.jpg"/>
          <p:cNvPicPr/>
          <p:nvPr/>
        </p:nvPicPr>
        <p:blipFill>
          <a:blip r:embed="rId1"/>
          <a:stretch/>
        </p:blipFill>
        <p:spPr>
          <a:xfrm>
            <a:off x="884160" y="695160"/>
            <a:ext cx="2048040" cy="260208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вижение добровольцев Ставрополь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 – Добровольчество – стиль жизни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йствуе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– с 1998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исс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– развитие творческого и профессионального потенциала молодежи посредством продвижения гражданского образования, поддержки социальных инициатив, создания и укрепления молодежного добровольческого движ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– содействие развитию и распространению технологий системного социального добровольчества на Кавказ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Рисунок 3" descr="http://www.kdobru.ru/netcat_files/userfiles/Logo%20Vnet/DDS_logo2-300x300.jpg"/>
          <p:cNvPicPr/>
          <p:nvPr/>
        </p:nvPicPr>
        <p:blipFill>
          <a:blip r:embed="rId1"/>
          <a:stretch/>
        </p:blipFill>
        <p:spPr>
          <a:xfrm>
            <a:off x="755640" y="1844640"/>
            <a:ext cx="1881360" cy="188136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85800" y="1909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действовать вовлечению молодежи Кавказа в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общественно-полезную деятельность через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приобщение ее к деятельности добровольческих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центр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действовать разработке добровольческих программ и их реализаци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еспечить добровольческие команды информационной и методологической поддержко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влечь внимание общественности к необходимости и актуальности развития добровольчества в современном обществ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становить более тесные связи (партнерские, творческие) с общественными организациями Кавказ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6" name="Рисунок 4" descr="http://www.kdobru.ru/netcat_files/userfiles/Logo%20Vnet/DDS_logo2-300x300.jpg"/>
          <p:cNvPicPr/>
          <p:nvPr/>
        </p:nvPicPr>
        <p:blipFill>
          <a:blip r:embed="rId1"/>
          <a:stretch/>
        </p:blipFill>
        <p:spPr>
          <a:xfrm>
            <a:off x="755640" y="1773360"/>
            <a:ext cx="1881360" cy="18810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жет включать взаимодействующую между собой (на основе мобилизации и консолидации ресурсов) совокупность государственных, муниципальных, негосударственных некоммерческих организаций и благотворительных программ коммерческих компаний,  ориентированных на стимулирование, поддержку и развитие добровольчества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684360" y="549360"/>
            <a:ext cx="770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Инфраструктура поддержки добровольчеств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738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уги СО НК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формационная и методическая поддерж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разовательные семинар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дивидуальные консульта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уги  добровольц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здание условий для полной реализации творческого потенциала кажд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учение социальным технологиям в различных направлениях рабо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0" name="Рисунок 5" descr="http://www.kdobru.ru/netcat_files/userfiles/Logo%20Vnet/DDS_logo2-300x300.jpg"/>
          <p:cNvPicPr/>
          <p:nvPr/>
        </p:nvPicPr>
        <p:blipFill>
          <a:blip r:embed="rId1"/>
          <a:stretch/>
        </p:blipFill>
        <p:spPr>
          <a:xfrm>
            <a:off x="755640" y="1844640"/>
            <a:ext cx="1881360" cy="1881360"/>
          </a:xfrm>
          <a:prstGeom prst="rect">
            <a:avLst/>
          </a:prstGeom>
          <a:ln w="0">
            <a:noFill/>
          </a:ln>
        </p:spPr>
      </p:pic>
      <p:sp>
        <p:nvSpPr>
          <p:cNvPr id="191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жегородская Служба Добровольцев действует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как Центр развития добровольчества и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благотворительности с 1999г. (с 1997 г. –  как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грамма  Ассоциации «Служение»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Добрые дела делаются добрым людьми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Создание условий для  вовлечения в добровольческую деятельность представителей различных слоев общества для  решения существующих местных проблем сообществ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Объединение социально активных людей, развитие Добровольческих Центров, координации и стимулирования добровольческих  инициати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Создание возможностей для реализации идей и раскрытия личностного и творческого потенциала  нижегородцев через добровольческую деятель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Рисунок 3" descr="http://www.kdobru.ru/netcat_files/userfiles/image/dobrNN_logo.png"/>
          <p:cNvPicPr/>
          <p:nvPr/>
        </p:nvPicPr>
        <p:blipFill>
          <a:blip r:embed="rId1"/>
          <a:stretch/>
        </p:blipFill>
        <p:spPr>
          <a:xfrm>
            <a:off x="665280" y="1122480"/>
            <a:ext cx="2114280" cy="3004920"/>
          </a:xfrm>
          <a:prstGeom prst="rect">
            <a:avLst/>
          </a:prstGeom>
          <a:ln w="0">
            <a:noFill/>
          </a:ln>
        </p:spPr>
      </p:pic>
      <p:sp>
        <p:nvSpPr>
          <p:cNvPr id="19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85800" y="1123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а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достижения указанных целей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«Нижегородская Служба Добровольцев»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осуществляет следующую деятельность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вает добровольческие инициативы населения города и област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влекает  людей к работе добровольцами (встречи с потенциальными добровольцами, консультации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ормирует и развивает добровольческие Центры в област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уществляет законотворческую и аналитическую работа в области развития добровольческого  движе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пускает информационный листок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водит  благотворительные акции, массовые мероприят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казывает социальную поддержку и защиту граждан, включая улучшение материального положения малообеспеченных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685800" y="-10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Рисунок 7" descr="http://www.kdobru.ru/netcat_files/userfiles/image/dobrNN_logo.png"/>
          <p:cNvPicPr/>
          <p:nvPr/>
        </p:nvPicPr>
        <p:blipFill>
          <a:blip r:embed="rId1"/>
          <a:stretch/>
        </p:blipFill>
        <p:spPr>
          <a:xfrm>
            <a:off x="665280" y="1054080"/>
            <a:ext cx="2114280" cy="299412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436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уги СО НК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Информационная поддержка и консультирование по вопросам добровольчества и благотворительност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Консультационно – методическая поддерж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Организационная поддержка: информационные рассылки; содействие в установление полезных контактов и взаимодействия с другими добровольческими организациям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Проведение кампаний для привлечение добровольце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Предоставление добровольцев (для проведения мероприятий, акция, и текущей добровольческой деятельности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2" name="Рисунок 7" descr="http://www.kdobru.ru/netcat_files/userfiles/image/dobrNN_logo.png"/>
          <p:cNvPicPr/>
          <p:nvPr/>
        </p:nvPicPr>
        <p:blipFill>
          <a:blip r:embed="rId1"/>
          <a:stretch/>
        </p:blipFill>
        <p:spPr>
          <a:xfrm>
            <a:off x="665280" y="1487520"/>
            <a:ext cx="2114280" cy="2992320"/>
          </a:xfrm>
          <a:prstGeom prst="rect">
            <a:avLst/>
          </a:prstGeom>
          <a:ln w="0">
            <a:noFill/>
          </a:ln>
        </p:spPr>
      </p:pic>
      <p:sp>
        <p:nvSpPr>
          <p:cNvPr id="20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85800" y="1836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уги  добровольц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Консультационная и информационная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поддержка по вопросам добровольчества и благотворительности; некоммерческих организаци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  Обучающие, просветительские, мотивационные мероприятия для добровольцев (образовательные семинары, тренинговые занятия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Предоставление информации о наличие свободных вакансий, добровольческих мероприятиях и акциях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Методическая, ресурсная, информационная, организационная поддержка добровольческих инициати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Поддержка Клуба добровольце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 Поощрение добровольцев.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6" name="Рисунок 7" descr="http://www.kdobru.ru/netcat_files/userfiles/image/dobrNN_logo.png"/>
          <p:cNvPicPr/>
          <p:nvPr/>
        </p:nvPicPr>
        <p:blipFill>
          <a:blip r:embed="rId1"/>
          <a:stretch/>
        </p:blipFill>
        <p:spPr>
          <a:xfrm>
            <a:off x="665280" y="1341360"/>
            <a:ext cx="2114280" cy="2992680"/>
          </a:xfrm>
          <a:prstGeom prst="rect">
            <a:avLst/>
          </a:prstGeom>
          <a:ln w="0">
            <a:noFill/>
          </a:ln>
        </p:spPr>
      </p:pic>
      <p:sp>
        <p:nvSpPr>
          <p:cNvPr id="20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85800" y="119700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нкт-Петербургская региональн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лаготворительная общественная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организация «Благотворительное обществ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Невский Ангел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здана  5 апреля 1988 года при поддержке писателя Д.А. Грани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вое название – Общество милосердия «Ленинград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иссия Обществ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ссия первого десятилетия (1988-1998 гг.): развитие благотворительности посредством оказания социальной помощи и развития творческого потенциала людей, поддержки становления и деятельности общественных объедин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ссия 1998 г. По настоящее время: развитие добровольчества и благотворительности посредством поддержки деятельности НКО, активизации граждан и содействия созданию механизмов межсекторного взаимодейств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C:\Users\Александр\Desktop\йц.jpg"/>
          <p:cNvPicPr/>
          <p:nvPr/>
        </p:nvPicPr>
        <p:blipFill>
          <a:blip r:embed="rId1"/>
          <a:stretch/>
        </p:blipFill>
        <p:spPr>
          <a:xfrm>
            <a:off x="738360" y="1268280"/>
            <a:ext cx="21938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шающиеся задач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Передача и распространение опыта в области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добровольч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Поддержка и развитие молодежного добровольч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Поддержка и развитие добровольчества в социальной сфер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Практическая реализация «Концепции развития социального добровольчества в Санкт-Петербурге на 2008-2011гг.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сновные виды деятельност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Просветительская, лекционная и обучающая деятель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Техническая поддержка добровольческих инициатив молодежи и НК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Проведение мероприятий в области социального добровольч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C:\Users\Александр\Desktop\йц.jpg"/>
          <p:cNvPicPr/>
          <p:nvPr/>
        </p:nvPicPr>
        <p:blipFill>
          <a:blip r:embed="rId1"/>
          <a:stretch/>
        </p:blipFill>
        <p:spPr>
          <a:xfrm>
            <a:off x="738360" y="1712880"/>
            <a:ext cx="219384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щество трижды удостоено Национальной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общественной награды в облас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бровольчеств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в т.ч. по номинации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«Добровольческий центр» за инновационные технологии и обучающие программы и за многолетний вклад в развитие благотворительности и добровольчества в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канун 25-летия, в 2012 году, Обществом реализована стратегическая межрегиональная программа «Вектор добровольчества – уверенность»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ориентированная на информационно-методическую поддержку деятельности Добровольческих центров и СО НКО в регионах РФ, а также формирование сети специалистов в области добровольчества. Программа реализована при поддержке субсидией Министерства экономического развития РФ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C:\Users\Александр\Desktop\йц.jpg"/>
          <p:cNvPicPr/>
          <p:nvPr/>
        </p:nvPicPr>
        <p:blipFill>
          <a:blip r:embed="rId1"/>
          <a:stretch/>
        </p:blipFill>
        <p:spPr>
          <a:xfrm>
            <a:off x="738360" y="1494000"/>
            <a:ext cx="21938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АГЕНТСТВО ДОБРОВОЛЬНОЙ ПОМОЩИ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профильная сервисная служба (организация), актуализирующая добровольческий потенциал для решения конкретных проблем территории и поддерживающая добровольческую деятельность гражд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МОЛОДЕЖНЫЕ ДОБРОВОЛЬЧЕСКИЕ АГЕНТСТВ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04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лодежные добровольческие агентства могут создавать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в качестве студенческой организации при поддержке и участии учебного заведе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в качестве совокупности функций действующей студенческой организаци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в качестве социально ориентированной некоммерческой организаци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а базе действующей молодежной организаци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а базе действующего муниципального/государственного учреждения молодежной сфер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а основе сотрудничества различных организаций с закрепленными функциями и ответственност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2781360"/>
            <a:ext cx="7773840" cy="3672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Социальная значимость добровольческого центр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лючается в создании лучших условий для предоставления людям возможностей быть добровольцами, стимулирования добровольческой активности и повышения эффективности добровольческого потенциала гражда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11280" y="33336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Центральным звеном инфраструктуры поддержки добровольчества на территории является Добровольческий цент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МОЛОДЕЖНОГО ДОБРОВОЛЬЧЕСКОГО АГЕНТСТВ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ДА «Академия добр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                  Действуе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 с 2011 го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– развитие добровольческого движения на базе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вуз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ач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– информирование студентов об их возможностях в сфере добровольчества; разработка и реализация социально значимых проект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граммы, проекты: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а с пожилыми людьми, детьми из детского дома, экологические проекты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уги СО НКО: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ртнерство, консультационная поддержка в разработке и реализации добровольческих проект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уги  добровольцам: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ганизационная поддержк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Рисунок 3" descr="http://www.kdobru.ru/netcat_files/userfiles/Logo%20Vnet/Akademiya%20dobra.png"/>
          <p:cNvPicPr/>
          <p:nvPr/>
        </p:nvPicPr>
        <p:blipFill>
          <a:blip r:embed="rId1"/>
          <a:stretch/>
        </p:blipFill>
        <p:spPr>
          <a:xfrm>
            <a:off x="395280" y="1628640"/>
            <a:ext cx="1903320" cy="190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МОЛОДЕЖНОГО ДОБРОВОЛЬЧЕСКОГО АГЕНТСТВ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бровольческий клуб СПГУТ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йствует  с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 2010 год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- создание новой модели студенческого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самоуправления в ВУЗе, работающего в социальной сфере на благо общества на добровольных началах, не подвластного административному влиянию в ВУЗе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Поддержка проведения социальных мероприятий в ВУЗ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Помощь различного рода социально ориентированным некоммерческим организациям (НКО) и государственным учреждениям (ГУ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Рисунок 3" descr="http://www.kdobru.ru/netcat_files/userfiles/Logo%20Vnet/Dobrovolcheskiy%20klub%20SPGUT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936800"/>
            <a:ext cx="1800000" cy="170820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685800" y="191736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Обучение новым видам деятельности студентов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активист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4.Обучение лидерским качествам добровольце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5.Командная работ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6. Получение практического опыт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.Организация проведения культурного досуга для студент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. Научная работа в социальной сфер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9. Профориентация студентов специальности «социальная работа с молодежью»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граммы, проекты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сбор макулатуры, организация досуга детей из  сиротских учреждений, помощь животным, массовые мероприятия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уги СО НКО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обеспечение добровольцам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уги  добровольцам: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учение, профориент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МОЛОДЕЖНОГО ДОБРОВОЛЬЧЕСКОГО АГЕНТСТВ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6" name="Рисунок 4" descr="http://www.kdobru.ru/netcat_files/userfiles/Logo%20Vnet/Dobrovolcheskiy%20klub%20SPGUT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803240"/>
            <a:ext cx="1800000" cy="170820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ЗАЛОГ УСПЕХА ДЕЯТЕЛЬНОСТИ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р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идеи и ценности добровольче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мещени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ловеческого подхода к организации деятельности и умеренной бюрократ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собност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иять на социальную политику территор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ставлени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овольцев и добровольческих организаций перед лицом общества и государ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креннее внимани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людям и организациям, их интересам и потребностя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БЛАГОДАРИМ ВАС ЗА ВНИМАНИЕ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ЕЛАЕМ УСПЕХ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ОБЛАСТИ РАЗВИТИЯ ДОБРОВОЛЬЧЕ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ПОДДЕРЖКИ ДОБРОВОЛЬЧЕСКИХ ИНИЦИАТИ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ww.kdobru.ru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3640" y="2205000"/>
            <a:ext cx="8569080" cy="4105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Добровольческий центр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это профильная некоммерческая организация в целом или ее часть (структурное подразделение, программа), предметами деятельности которого являются вопросы поддержки добровольческих инициатив граждан и организаций, вопросы развития добровольчества в качестве социально значимого явл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95280" y="26028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Сущность и Миссия, 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принципы, основные функции,           цели и задачи Д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Деятельность ДЦ основывается на принципах равенства, доступности и добровольности, включая: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06208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открытого и равного доступа к услугам ДЦ граждан различных возрастных и социальных групп, организаций социальной сферы, реализующих добровольческие программы - государственных и муниципальных учреждений, общественных объединений (в т.ч. Инициативных групп), некоммерческих негосударственных организаций, коммерческих компа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стие организаций партнеров и клиентов ДЦ в его мероприятиях, направленных на поддержку добровольчества и добровольческих инициатив, продвижение ценностей добровольч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действие широкому взаимодействию в области добровольчества между различными субъектами правоотношений: органами власти, государственными и муниципальными учреждениями, некоммерческими организациями, коммерческими компаниями, учебными заведениями, средствами массовой информаци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информационных, методических и других ресурсных возможностей государственных и негосударственных организаций в целях развития поддерживающих услуг ДЦ, содействие обмену опытом и ресурсами между организациями социальной сфер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Деятельность ДЦ основывается на принципах равенства, доступности и добровольности, включая: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8497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ffcc66"/>
                </a:solidFill>
                <a:latin typeface="Arial"/>
              </a:rPr>
              <a:t>На территории своей деятельности добровольческие центры определяются как источник ресурсов для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решения социальных проблем посредством поддержки добровольческих инициатив и как наиболее компетентные структуры в области добровольчества, в части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координации взаимодействия в области добровольчеств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актуализации добровольческого потенциала обществ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развития добровольческих услуг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овышения квалификации для организации работы добровольцев, управления добровольческими программами и проект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Идентификационные характеристики добровольческих центров проявляются через их деятельность в шести областях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движение ценностей, практики и признания добровольчеств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ние людям возможности быть добровольцам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йствие всем заинтересованным организациям в управлении добровольческими ресурсам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стие в выработке стратегий для решения проблем территорий с учетом мобилизации добровольческого потенциала граждан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вокатура добровольцев и добровольческих организаций перед лицом общества и государств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витие партнерств, в т.ч. деятельность в межрегиональных и международных программах и сетях ДЦ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26920" y="189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ОСНОВНЫЕ ФУНКЦИИ Д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8:12:17Z</dcterms:created>
  <dc:creator>Anuta</dc:creator>
  <dc:description/>
  <dc:language>en-US</dc:language>
  <cp:lastModifiedBy>Александр</cp:lastModifiedBy>
  <dcterms:modified xsi:type="dcterms:W3CDTF">2013-06-19T18:45:58Z</dcterms:modified>
  <cp:revision>167</cp:revision>
  <dc:subject/>
  <dc:title>«Проблемы становления и внедрения в государственную правоприменительную практику процедур и стандартов оценочной деятельности»   </dc:title>
</cp:coreProperties>
</file>